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8A329-513C-415C-A4C1-F5E9ED040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A860E-794A-4493-BB42-F0D4FA5F8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0E88D-D59C-4F1D-A1C7-F3AD95515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ABE83-21E0-46BC-9658-824B773ED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10829-39D2-4384-A61E-F872BFE9A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4D52B-DADC-49B4-AE34-F6E74363A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9BBB1-B69D-4F58-B5B7-B4174EB77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96873-E0E7-4A4D-91BF-862B2450E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98D83-4326-44EE-82B1-B2B5F5BB4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D5251-1822-40A1-8CD3-C0DD3D009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FB9DD-0352-4138-8015-01E864903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EEC24-36E9-48D0-9AFC-E504A926B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3366cc"/>
            </a:gs>
            <a:gs pos="100000">
              <a:srgbClr val="00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F495-28F4-4465-9067-9EA82A6A35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3366cc"/>
            </a:gs>
            <a:gs pos="100000">
              <a:srgbClr val="0099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609480"/>
            <a:ext cx="84582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Prawn Handwrite"/>
              </a:rPr>
              <a:t>Genetically Modified Bacteria</a:t>
            </a:r>
            <a:endParaRPr b="0" lang="en-US" sz="5400" spc="-1" strike="noStrike">
              <a:solidFill>
                <a:srgbClr val="000000"/>
              </a:solidFill>
              <a:latin typeface="Arial"/>
            </a:endParaRPr>
          </a:p>
        </p:txBody>
      </p:sp>
      <p:pic>
        <p:nvPicPr>
          <p:cNvPr id="42" name="" descr=""/>
          <p:cNvPicPr/>
          <p:nvPr/>
        </p:nvPicPr>
        <p:blipFill>
          <a:blip r:embed="rId1"/>
          <a:stretch/>
        </p:blipFill>
        <p:spPr>
          <a:xfrm>
            <a:off x="3276720" y="2514600"/>
            <a:ext cx="2971800" cy="2562120"/>
          </a:xfrm>
          <a:prstGeom prst="rect">
            <a:avLst/>
          </a:prstGeom>
          <a:ln w="0">
            <a:noFill/>
          </a:ln>
        </p:spPr>
      </p:pic>
      <p:sp>
        <p:nvSpPr>
          <p:cNvPr id="43" name=""/>
          <p:cNvSpPr/>
          <p:nvPr/>
        </p:nvSpPr>
        <p:spPr>
          <a:xfrm>
            <a:off x="152280" y="5943600"/>
            <a:ext cx="63248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rawn Handwrite"/>
              </a:rPr>
              <a:t>By Andrea Blackburn and Katie Car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rawn Handwrite"/>
              </a:rPr>
              <a:t>Bio 2 Block A</a:t>
            </a:r>
            <a:endParaRPr b="0" lang="en-US" sz="1800" spc="-1" strike="noStrike">
              <a:solidFill>
                <a:srgbClr val="000000"/>
              </a:solidFill>
              <a:latin typeface="Arial"/>
            </a:endParaRPr>
          </a:p>
        </p:txBody>
      </p:sp>
      <p:pic>
        <p:nvPicPr>
          <p:cNvPr id="44" name="" descr=""/>
          <p:cNvPicPr/>
          <p:nvPr/>
        </p:nvPicPr>
        <p:blipFill>
          <a:blip r:embed="rId2"/>
          <a:stretch/>
        </p:blipFill>
        <p:spPr>
          <a:xfrm>
            <a:off x="457200" y="3276720"/>
            <a:ext cx="2514600" cy="2514600"/>
          </a:xfrm>
          <a:prstGeom prst="rect">
            <a:avLst/>
          </a:prstGeom>
          <a:ln w="0">
            <a:noFill/>
          </a:ln>
        </p:spPr>
      </p:pic>
      <p:pic>
        <p:nvPicPr>
          <p:cNvPr id="45" name="" descr=""/>
          <p:cNvPicPr/>
          <p:nvPr/>
        </p:nvPicPr>
        <p:blipFill>
          <a:blip r:embed="rId3"/>
          <a:stretch/>
        </p:blipFill>
        <p:spPr>
          <a:xfrm>
            <a:off x="6477120" y="2895480"/>
            <a:ext cx="2287440" cy="289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3366cc"/>
            </a:gs>
            <a:gs pos="100000">
              <a:srgbClr val="0099ff"/>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rket"/>
              </a:rPr>
              <a:t>Bibliography</a:t>
            </a:r>
            <a:endParaRPr b="0" lang="en-US" sz="4400" spc="-1" strike="noStrike">
              <a:solidFill>
                <a:srgbClr val="000000"/>
              </a:solidFill>
              <a:latin typeface="Arial"/>
            </a:endParaRPr>
          </a:p>
        </p:txBody>
      </p:sp>
      <p:sp>
        <p:nvSpPr>
          <p:cNvPr id="70"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ww.drugresearcher.com/new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purefood.org/ge/klebsiella.cf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ww.scienceagogo.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ww.learner.org/channel/courses/biology/textbook/gm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ww.technologyreview.com/Biztech/19128/</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y.newscientist.com/article/dn10116-gm-bacteri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3366cc"/>
            </a:gs>
            <a:gs pos="100000">
              <a:srgbClr val="0099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3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GMO’s?</a:t>
            </a:r>
            <a:endParaRPr b="0" lang="en-US" sz="4400" spc="-1" strike="noStrike">
              <a:solidFill>
                <a:srgbClr val="000000"/>
              </a:solidFill>
              <a:latin typeface="Arial"/>
            </a:endParaRPr>
          </a:p>
        </p:txBody>
      </p:sp>
      <p:sp>
        <p:nvSpPr>
          <p:cNvPr id="47" name="PlaceHolder 2"/>
          <p:cNvSpPr>
            <a:spLocks noGrp="1"/>
          </p:cNvSpPr>
          <p:nvPr>
            <p:ph/>
          </p:nvPr>
        </p:nvSpPr>
        <p:spPr>
          <a:xfrm>
            <a:off x="380880" y="1371240"/>
            <a:ext cx="838224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ally Modified Organisms are organisms that have been genetically altered to carry and/or produce a certain necessary gene. This is done by inserting the required gene into the organism’s D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hree types of GMO’s: animals, plants and bacte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focused on bacte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3366cc"/>
            </a:gs>
            <a:gs pos="100000">
              <a:srgbClr val="0099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re GMO’s made?</a:t>
            </a:r>
            <a:endParaRPr b="0" lang="en-US" sz="4400" spc="-1" strike="noStrike">
              <a:solidFill>
                <a:srgbClr val="000000"/>
              </a:solidFill>
              <a:latin typeface="Arial"/>
            </a:endParaRPr>
          </a:p>
        </p:txBody>
      </p:sp>
      <p:sp>
        <p:nvSpPr>
          <p:cNvPr id="49" name="PlaceHolder 2"/>
          <p:cNvSpPr>
            <a:spLocks noGrp="1"/>
          </p:cNvSpPr>
          <p:nvPr>
            <p:ph/>
          </p:nvPr>
        </p:nvSpPr>
        <p:spPr>
          <a:xfrm>
            <a:off x="456840" y="1371600"/>
            <a:ext cx="83818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ecific gene is chosen and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then extracted from DNA using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 restriction enzy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gene is then inserted into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 bacterium. Since these are single celled organisms the gene only has to be inserted once and because bacteria multiply quickly, they are an ideal candidate for mass production of a specific ge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http://at-the-edge-of-art.com/can_museums_media/davis_microvenus_e_coli.gif"/>
          <p:cNvPicPr/>
          <p:nvPr/>
        </p:nvPicPr>
        <p:blipFill>
          <a:blip r:embed="rId1"/>
          <a:stretch/>
        </p:blipFill>
        <p:spPr>
          <a:xfrm>
            <a:off x="6553080" y="1295280"/>
            <a:ext cx="2419560" cy="210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3366cc"/>
            </a:gs>
            <a:gs pos="100000">
              <a:srgbClr val="0099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s it relevant to society?</a:t>
            </a:r>
            <a:endParaRPr b="0" lang="en-US" sz="4400" spc="-1" strike="noStrike">
              <a:solidFill>
                <a:srgbClr val="000000"/>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M bacteria are relevant to society, because they are a fast and easy way to make a lot of a selected g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an be used to cure and </a:t>
            </a:r>
            <a:r>
              <a:rPr b="0" lang="en-US" sz="3200" spc="-1" strike="noStrike">
                <a:solidFill>
                  <a:srgbClr val="000000"/>
                </a:solidFill>
                <a:latin typeface="Arial"/>
              </a:rPr>
              <a:t>	</a:t>
            </a:r>
            <a:r>
              <a:rPr b="0" lang="en-US" sz="3200" spc="-1" strike="noStrike">
                <a:solidFill>
                  <a:srgbClr val="000000"/>
                </a:solidFill>
                <a:latin typeface="Arial"/>
              </a:rPr>
              <a:t>    prevent sicknesses, to create     medicines, to improve the </a:t>
            </a:r>
            <a:r>
              <a:rPr b="0" lang="en-US" sz="3200" spc="-1" strike="noStrike">
                <a:solidFill>
                  <a:srgbClr val="000000"/>
                </a:solidFill>
                <a:latin typeface="Arial"/>
              </a:rPr>
              <a:t>	</a:t>
            </a:r>
            <a:r>
              <a:rPr b="0" lang="en-US" sz="3200" spc="-1" strike="noStrike">
                <a:solidFill>
                  <a:srgbClr val="000000"/>
                </a:solidFill>
                <a:latin typeface="Arial"/>
              </a:rPr>
              <a:t>    environment in numerous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ways and to help in many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other ways.</a:t>
            </a:r>
            <a:endParaRPr b="0" lang="en-US" sz="3200" spc="-1" strike="noStrike">
              <a:solidFill>
                <a:srgbClr val="000000"/>
              </a:solidFill>
              <a:latin typeface="Arial"/>
            </a:endParaRPr>
          </a:p>
        </p:txBody>
      </p:sp>
      <p:pic>
        <p:nvPicPr>
          <p:cNvPr id="53" name="" descr=""/>
          <p:cNvPicPr/>
          <p:nvPr/>
        </p:nvPicPr>
        <p:blipFill>
          <a:blip r:embed="rId1"/>
          <a:stretch/>
        </p:blipFill>
        <p:spPr>
          <a:xfrm>
            <a:off x="6248520" y="3276720"/>
            <a:ext cx="2604960" cy="31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3366cc"/>
            </a:gs>
            <a:gs pos="100000">
              <a:srgbClr val="0099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960" y="-36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rket"/>
              </a:rPr>
              <a:t>Examples of GM Bacteria Being Used</a:t>
            </a:r>
            <a:endParaRPr b="0" lang="en-US" sz="3200" spc="-1" strike="noStrike">
              <a:solidFill>
                <a:srgbClr val="000000"/>
              </a:solidFill>
              <a:latin typeface="Arial"/>
            </a:endParaRPr>
          </a:p>
        </p:txBody>
      </p:sp>
      <p:sp>
        <p:nvSpPr>
          <p:cNvPr id="55"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M Bacteria Creates Living Photograph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600" spc="-1" strike="noStrike">
                <a:solidFill>
                  <a:srgbClr val="000000"/>
                </a:solidFill>
                <a:latin typeface="Arial"/>
              </a:rPr>
              <a:t>E. coli</a:t>
            </a:r>
            <a:r>
              <a:rPr b="1" lang="en-US" sz="1600" spc="-1" strike="noStrike">
                <a:solidFill>
                  <a:srgbClr val="000000"/>
                </a:solidFill>
                <a:latin typeface="Arial"/>
              </a:rPr>
              <a:t> are normally found in the dark confines of the human gut and wouldn't normally sense light, so the students had to engineer the unicellular machines to work as a light sensitive photo-capturing surface. Much as pixels on a computer screen switch between white and black, each bacterium either produced a black pigment or didn't, depending on whether it was growing in a light or dark place in the dish. The resulting images are a collection of all the bacteria responding to the pattern of light.</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6" name="" descr=""/>
          <p:cNvPicPr/>
          <p:nvPr/>
        </p:nvPicPr>
        <p:blipFill>
          <a:blip r:embed="rId1"/>
          <a:stretch/>
        </p:blipFill>
        <p:spPr>
          <a:xfrm>
            <a:off x="4800600" y="4114800"/>
            <a:ext cx="2971800" cy="240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3366cc"/>
            </a:gs>
            <a:gs pos="100000">
              <a:srgbClr val="0099ff"/>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rket"/>
              </a:rPr>
              <a:t>Examples of GM Bacteria Being Used</a:t>
            </a: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73152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M bacteria eats cancer</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umours grow to a size greater than that of a pinhead the centre of the cancerous growth becomes starved of oxygen due to the lack of organized blood capillaries feeding the growth.</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tically modified </a:t>
            </a:r>
            <a:r>
              <a:rPr b="0" i="1" lang="en-US" sz="1800" spc="-1" strike="noStrike">
                <a:solidFill>
                  <a:srgbClr val="000000"/>
                </a:solidFill>
                <a:latin typeface="Arial"/>
              </a:rPr>
              <a:t>C.novyi</a:t>
            </a:r>
            <a:r>
              <a:rPr b="0" lang="en-US" sz="1800" spc="-1" strike="noStrike">
                <a:solidFill>
                  <a:srgbClr val="000000"/>
                </a:solidFill>
                <a:latin typeface="Arial"/>
              </a:rPr>
              <a:t>-NT bacterium thrives in these oxygen-deficient areas, which are unique to cancerous growths, and starts to kill the tumour from the inside out. Normal surrounding cells were largely unaffected as were the exterior of the tumours as the bacteria don't like the more oxygen rich conditions.</a:t>
            </a:r>
            <a:endParaRPr b="0" lang="en-US" sz="1800" spc="-1" strike="noStrike">
              <a:solidFill>
                <a:srgbClr val="000000"/>
              </a:solidFill>
              <a:latin typeface="Arial"/>
            </a:endParaRPr>
          </a:p>
        </p:txBody>
      </p:sp>
      <p:pic>
        <p:nvPicPr>
          <p:cNvPr id="59" name="" descr=""/>
          <p:cNvPicPr/>
          <p:nvPr/>
        </p:nvPicPr>
        <p:blipFill>
          <a:blip r:embed="rId1"/>
          <a:stretch/>
        </p:blipFill>
        <p:spPr>
          <a:xfrm>
            <a:off x="4876920" y="4572000"/>
            <a:ext cx="2743200" cy="203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3366cc"/>
            </a:gs>
            <a:gs pos="100000">
              <a:srgbClr val="0099f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rket"/>
              </a:rPr>
              <a:t>Examples of GM Bacteria Being Used</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tically Altered Bacteria Could Block Malaria Transmission</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ientists have discovered a way to help stop the spread of malaria by genetically altering a bacterium that infects about 80 percent of the world’s insects. Malaria is primarily transmitted through mosquito bites and kills more than a million people every year.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e ubiquitous Wolbachia bacteria are able to alter male insects so that they can only reproduce with female insects also infected with the bacteria, resulting in more infected offspring. Researchers believe that by using genetically altered Wolbachia bacteria, they could spread genes that leave mosquitoes unable to transmit the malaria parasite.</a:t>
            </a:r>
            <a:endParaRPr b="0" lang="en-US" sz="1400" spc="-1" strike="noStrike">
              <a:solidFill>
                <a:srgbClr val="000000"/>
              </a:solidFill>
              <a:latin typeface="Arial"/>
            </a:endParaRPr>
          </a:p>
        </p:txBody>
      </p:sp>
      <p:graphicFrame>
        <p:nvGraphicFramePr>
          <p:cNvPr id="62" name=""/>
          <p:cNvGraphicFramePr/>
          <p:nvPr/>
        </p:nvGraphicFramePr>
        <p:xfrm>
          <a:off x="2895480" y="3962520"/>
          <a:ext cx="3505320" cy="2697120"/>
        </p:xfrm>
        <a:graphic>
          <a:graphicData uri="http://schemas.openxmlformats.org/presentationml/2006/ole">
            <p:oleObj r:id="rId1" spid="">
              <p:embed/>
              <p:pic>
                <p:nvPicPr>
                  <p:cNvPr id="63" name="" descr=""/>
                  <p:cNvPicPr/>
                  <p:nvPr/>
                </p:nvPicPr>
                <p:blipFill>
                  <a:blip r:embed="rId2"/>
                  <a:stretch/>
                </p:blipFill>
                <p:spPr>
                  <a:xfrm>
                    <a:off x="2895480" y="3962520"/>
                    <a:ext cx="3505320" cy="269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3366cc"/>
            </a:gs>
            <a:gs pos="100000">
              <a:srgbClr val="0099ff"/>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60"/>
            <a:ext cx="96012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arket"/>
              </a:rPr>
              <a:t>Ethic and Risk Considerations</a:t>
            </a:r>
            <a:endParaRPr b="0" lang="en-US" sz="4000" spc="-1" strike="noStrike">
              <a:solidFill>
                <a:srgbClr val="000000"/>
              </a:solidFill>
              <a:latin typeface="Arial"/>
            </a:endParaRPr>
          </a:p>
        </p:txBody>
      </p:sp>
      <p:sp>
        <p:nvSpPr>
          <p:cNvPr id="65" name="PlaceHolder 2"/>
          <p:cNvSpPr>
            <a:spLocks noGrp="1"/>
          </p:cNvSpPr>
          <p:nvPr>
            <p:ph type="subTitle"/>
          </p:nvPr>
        </p:nvSpPr>
        <p:spPr>
          <a:xfrm>
            <a:off x="533520" y="1294920"/>
            <a:ext cx="8153280" cy="5334120"/>
          </a:xfrm>
          <a:prstGeom prst="rect">
            <a:avLst/>
          </a:prstGeom>
          <a:noFill/>
          <a:ln w="0">
            <a:noFill/>
          </a:ln>
        </p:spPr>
        <p:txBody>
          <a:bodyPr lIns="90000" rIns="90000" tIns="46800" bIns="46800" anchor="t">
            <a:no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ople feel that eventually unintended harmful and dangerous organisms will be created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overpower wild species</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s living beings to the status of manufactured product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GMOs in a certain environment could have different impacts in a different environmen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be the transgene could escape to any other species, either to non-GM individuals of the same species or to closely related species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Scientists in Oregon found that a genetically engineered soil microorganism, Klebsiella planticola, completely killed essential soil nutrients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3366cc"/>
            </a:gs>
            <a:gs pos="100000">
              <a:srgbClr val="0099ff"/>
            </a:gs>
          </a:gsLst>
          <a:lin ang="135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5638680" y="4267080"/>
            <a:ext cx="3048120" cy="228600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rket"/>
              </a:rPr>
              <a:t>Benefits of GM Bacteria</a:t>
            </a:r>
            <a:endParaRPr b="0" lang="en-US" sz="4400" spc="-1" strike="noStrike">
              <a:solidFill>
                <a:srgbClr val="000000"/>
              </a:solidFill>
              <a:latin typeface="Arial"/>
            </a:endParaRPr>
          </a:p>
        </p:txBody>
      </p:sp>
      <p:sp>
        <p:nvSpPr>
          <p:cNvPr id="68" name="PlaceHolder 2"/>
          <p:cNvSpPr>
            <a:spLocks noGrp="1"/>
          </p:cNvSpPr>
          <p:nvPr>
            <p:ph/>
          </p:nvPr>
        </p:nvSpPr>
        <p:spPr>
          <a:xfrm>
            <a:off x="456840" y="1447920"/>
            <a:ext cx="670572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nvironment-  Possible control of weeds and feral pest animals, use of GMOs that reduce the use of toxic chemicals, GMOs to decontaminate toxic waste sites, GMOs in environmental friendly powe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arms-  Improved nutrition for people, increased environmental protection through the reduced use of pesticides, and increased quality and quantity of yields, as well as increased farm profitability through reduced costs and new product opportuniti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eople-  New cures for diseas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ds dental cavities, can end genetical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ssed on disease, better technolog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all fiel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2T10:06:03Z</dcterms:created>
  <dc:creator>Andrea</dc:creator>
  <dc:description/>
  <dc:language>en-US</dc:language>
  <cp:lastModifiedBy>Katherine Elizabeth Carter</cp:lastModifiedBy>
  <dcterms:modified xsi:type="dcterms:W3CDTF">2008-03-03T15:11:08Z</dcterms:modified>
  <cp:revision>6</cp:revision>
  <dc:subject/>
  <dc:title>Ethic Considerations</dc:title>
</cp:coreProperties>
</file>